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4.png" ContentType="image/pn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ABFE-CEEC-4814-BF88-495D65C24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C14C-4F0F-412C-9906-831B3AF0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9ECA-6571-4735-8CE1-CB6030559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5D40-2AD1-4959-97D9-D307B0789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3A92-841F-4DE8-8230-BB3865344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8977-7D03-431E-A022-F6F957F2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D878-9276-4EF7-A12D-1EB37CBF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C587-58D3-4B28-BEF2-0285C320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51ED8-6046-4D67-9F76-7156B277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A8AA-E121-48D9-9F29-2576CA65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6780-605D-4E93-80B0-57CD5EFC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725F-5EA4-4ADB-9839-8DA8A920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0F27-97BE-4A72-9DDA-D323E377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B633-85D7-4C19-AB8C-004F8919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0180-B475-4559-8F62-EE3622B0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5924-6CD7-42A4-B59B-9539996B6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52F0-1644-478D-8792-939C8C20C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FF15-5635-458F-B358-DC9282FF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3B6C-F92A-4AA1-A44F-F2AE6EEA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33CD-58A8-48C1-9023-3E5507B8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75A3-89A9-4823-8B1A-FB889F75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D9BB-57D9-4FA1-8EB5-E4138973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4E71-E04B-4F73-9465-071299A4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FD0B-144E-4312-9DCB-324B5F42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1027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f5e76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86F4-4CC1-4363-BA49-B67A2D19AA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2f5e76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61A6-1748-4C67-8E2C-406F65988B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hyperlink" Target="http://schools.becta.org.uk/index.php?section=srf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hyperlink" Target="http://schools.becta.org.uk/index.php?section=srf&amp;catcode=ss_to_srf_exp_02" TargetMode="External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hyperlink" Target="https://selfreview.becta.org.uk/review/elements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jpe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03280" y="-71640"/>
            <a:ext cx="4140360" cy="206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Welc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http://www.woodgreenhigh.sandwell.sch.uk/News/images/ICT%20Mark_Full%20Colour.gif"/>
          <p:cNvPicPr/>
          <p:nvPr/>
        </p:nvPicPr>
        <p:blipFill>
          <a:blip r:embed="rId1"/>
          <a:stretch/>
        </p:blipFill>
        <p:spPr>
          <a:xfrm>
            <a:off x="7164360" y="5348160"/>
            <a:ext cx="1674720" cy="1181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http://www.ukfederation.org.uk/library/uploads/Documents/BECTA.COL_main.jpg"/>
          <p:cNvPicPr/>
          <p:nvPr/>
        </p:nvPicPr>
        <p:blipFill>
          <a:blip r:embed="rId2"/>
          <a:stretch/>
        </p:blipFill>
        <p:spPr>
          <a:xfrm>
            <a:off x="304920" y="380880"/>
            <a:ext cx="2682720" cy="10591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0" y="4795920"/>
            <a:ext cx="3780000" cy="22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Croes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0" descr="monkey"/>
          <p:cNvPicPr/>
          <p:nvPr/>
        </p:nvPicPr>
        <p:blipFill>
          <a:blip r:embed="rId3"/>
          <a:srcRect l="10638" t="3435" r="15379" b="10015"/>
          <a:stretch/>
        </p:blipFill>
        <p:spPr>
          <a:xfrm>
            <a:off x="8286840" y="142920"/>
            <a:ext cx="714240" cy="642960"/>
          </a:xfrm>
          <a:prstGeom prst="rect">
            <a:avLst/>
          </a:prstGeom>
          <a:ln w="0">
            <a:noFill/>
          </a:ln>
        </p:spPr>
      </p:pic>
      <p:pic>
        <p:nvPicPr>
          <p:cNvPr id="93" name="song final.wav" descr=""/>
          <p:cNvPicPr/>
          <p:nvPr/>
        </p:nvPicPr>
        <p:blipFill>
          <a:blip r:embed="rId4"/>
          <a:stretch/>
        </p:blipFill>
        <p:spPr>
          <a:xfrm>
            <a:off x="8572680" y="2858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http://images.google.co.uk/url?q=http://newsimg.bbc.co.uk/media/images/41143000/jpg/_41143114_glenboibbc203.jpg&amp;usg=AFQjCNFS2cGTDnbcfXmdXsK5-iw-31RjiA"/>
          <p:cNvPicPr/>
          <p:nvPr/>
        </p:nvPicPr>
        <p:blipFill>
          <a:blip r:embed="rId5"/>
          <a:stretch/>
        </p:blipFill>
        <p:spPr>
          <a:xfrm>
            <a:off x="2857680" y="1857240"/>
            <a:ext cx="3500280" cy="26211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6"/>
          <p:cNvSpPr/>
          <p:nvPr/>
        </p:nvSpPr>
        <p:spPr>
          <a:xfrm>
            <a:off x="714240" y="4357800"/>
            <a:ext cx="77868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ICT report to Governo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30 / 09 / 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7" descr="IMAG015"/>
          <p:cNvPicPr/>
          <p:nvPr/>
        </p:nvPicPr>
        <p:blipFill>
          <a:blip r:embed="rId1"/>
          <a:stretch/>
        </p:blipFill>
        <p:spPr>
          <a:xfrm>
            <a:off x="5857920" y="189000"/>
            <a:ext cx="3035160" cy="21096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71640" y="1663200"/>
            <a:ext cx="604836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edraw Primary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9" descr="http://www.ukfederation.org.uk/library/uploads/Documents/BECTA.COL_main.jpg"/>
          <p:cNvPicPr/>
          <p:nvPr/>
        </p:nvPicPr>
        <p:blipFill>
          <a:blip r:embed="rId2"/>
          <a:stretch/>
        </p:blipFill>
        <p:spPr>
          <a:xfrm>
            <a:off x="28440" y="49320"/>
            <a:ext cx="1447920" cy="5713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http://www.woodgreenhigh.sandwell.sch.uk/News/images/ICT%20Mark_Full%20Colour.gif"/>
          <p:cNvPicPr/>
          <p:nvPr/>
        </p:nvPicPr>
        <p:blipFill>
          <a:blip r:embed="rId3"/>
          <a:stretch/>
        </p:blipFill>
        <p:spPr>
          <a:xfrm>
            <a:off x="7956720" y="6006960"/>
            <a:ext cx="1143000" cy="8067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monkey"/>
          <p:cNvPicPr/>
          <p:nvPr/>
        </p:nvPicPr>
        <p:blipFill>
          <a:blip r:embed="rId4"/>
          <a:srcRect l="10649" t="3445" r="15385" b="10007"/>
          <a:stretch/>
        </p:blipFill>
        <p:spPr>
          <a:xfrm>
            <a:off x="108000" y="5891040"/>
            <a:ext cx="863640" cy="7779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12"/>
          <p:cNvSpPr/>
          <p:nvPr/>
        </p:nvSpPr>
        <p:spPr>
          <a:xfrm>
            <a:off x="303120" y="38052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aedraw Primary School is one of the first schools to have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chieved the ICT MA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5" descr="Bugs%20Bunny"/>
          <p:cNvPicPr/>
          <p:nvPr/>
        </p:nvPicPr>
        <p:blipFill>
          <a:blip r:embed="rId1"/>
          <a:stretch/>
        </p:blipFill>
        <p:spPr>
          <a:xfrm>
            <a:off x="2771640" y="115920"/>
            <a:ext cx="3159360" cy="4967280"/>
          </a:xfrm>
          <a:prstGeom prst="rect">
            <a:avLst/>
          </a:prstGeom>
          <a:ln w="0">
            <a:noFill/>
          </a:ln>
        </p:spPr>
      </p:pic>
      <p:sp>
        <p:nvSpPr>
          <p:cNvPr id="193" name="WordArt 6"/>
          <p:cNvSpPr txBox="1"/>
          <p:nvPr/>
        </p:nvSpPr>
        <p:spPr>
          <a:xfrm>
            <a:off x="1522440" y="5162400"/>
            <a:ext cx="5497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at's   all    folks ! ! 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4" name="Picture 7" descr="http://www.ukfederation.org.uk/library/uploads/Documents/BECTA.COL_main.jpg"/>
          <p:cNvPicPr/>
          <p:nvPr/>
        </p:nvPicPr>
        <p:blipFill>
          <a:blip r:embed="rId2"/>
          <a:stretch/>
        </p:blipFill>
        <p:spPr>
          <a:xfrm>
            <a:off x="28440" y="49320"/>
            <a:ext cx="1447920" cy="571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http://www.woodgreenhigh.sandwell.sch.uk/News/images/ICT%20Mark_Full%20Colour.gif"/>
          <p:cNvPicPr/>
          <p:nvPr/>
        </p:nvPicPr>
        <p:blipFill>
          <a:blip r:embed="rId3"/>
          <a:stretch/>
        </p:blipFill>
        <p:spPr>
          <a:xfrm>
            <a:off x="7956720" y="6006960"/>
            <a:ext cx="1143000" cy="806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monkey"/>
          <p:cNvPicPr/>
          <p:nvPr/>
        </p:nvPicPr>
        <p:blipFill>
          <a:blip r:embed="rId4"/>
          <a:srcRect l="10649" t="3445" r="15385" b="10007"/>
          <a:stretch/>
        </p:blipFill>
        <p:spPr>
          <a:xfrm>
            <a:off x="7391520" y="457200"/>
            <a:ext cx="1218960" cy="1098720"/>
          </a:xfrm>
          <a:prstGeom prst="rect">
            <a:avLst/>
          </a:prstGeom>
          <a:ln w="0">
            <a:noFill/>
          </a:ln>
        </p:spPr>
      </p:pic>
      <p:pic>
        <p:nvPicPr>
          <p:cNvPr id="197" name="song final.wav" descr=""/>
          <p:cNvPicPr/>
          <p:nvPr/>
        </p:nvPicPr>
        <p:blipFill>
          <a:blip r:embed="rId5"/>
          <a:stretch/>
        </p:blipFill>
        <p:spPr>
          <a:xfrm>
            <a:off x="7929720" y="9288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7" dur="60000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http://www.ukfederation.org.uk/library/uploads/Documents/BECTA.COL_main.jpg"/>
          <p:cNvPicPr/>
          <p:nvPr/>
        </p:nvPicPr>
        <p:blipFill>
          <a:blip r:embed="rId1"/>
          <a:stretch/>
        </p:blipFill>
        <p:spPr>
          <a:xfrm>
            <a:off x="228600" y="228600"/>
            <a:ext cx="1447920" cy="571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http://www.woodgreenhigh.sandwell.sch.uk/News/images/ICT%20Mark_Full%20Colour.gif"/>
          <p:cNvPicPr/>
          <p:nvPr/>
        </p:nvPicPr>
        <p:blipFill>
          <a:blip r:embed="rId2"/>
          <a:stretch/>
        </p:blipFill>
        <p:spPr>
          <a:xfrm>
            <a:off x="7924680" y="6019920"/>
            <a:ext cx="1143000" cy="806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onkey"/>
          <p:cNvPicPr/>
          <p:nvPr/>
        </p:nvPicPr>
        <p:blipFill>
          <a:blip r:embed="rId3"/>
          <a:srcRect l="10649" t="3445" r="15385" b="10007"/>
          <a:stretch/>
        </p:blipFill>
        <p:spPr>
          <a:xfrm>
            <a:off x="6881760" y="549360"/>
            <a:ext cx="1219320" cy="10983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533520" y="2362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914400" y="2590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755640" y="1773360"/>
            <a:ext cx="312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at is SRF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755640" y="2349360"/>
            <a:ext cx="62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at are the benefits of the SRF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752400" y="4000680"/>
            <a:ext cx="62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at nex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755640" y="3500280"/>
            <a:ext cx="62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ere we are at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752400" y="2928960"/>
            <a:ext cx="62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755640" y="4581360"/>
            <a:ext cx="62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CT  MA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755640" y="5157720"/>
            <a:ext cx="62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edraw Primary Scho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755640" y="5670720"/>
            <a:ext cx="62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at’s all folk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SRF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http://www.ukfederation.org.uk/library/uploads/Documents/BECTA.COL_main.jpg"/>
          <p:cNvPicPr/>
          <p:nvPr/>
        </p:nvPicPr>
        <p:blipFill>
          <a:blip r:embed="rId1"/>
          <a:stretch/>
        </p:blipFill>
        <p:spPr>
          <a:xfrm>
            <a:off x="228600" y="228600"/>
            <a:ext cx="1447920" cy="571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http://www.woodgreenhigh.sandwell.sch.uk/News/images/ICT%20Mark_Full%20Colour.gif"/>
          <p:cNvPicPr/>
          <p:nvPr/>
        </p:nvPicPr>
        <p:blipFill>
          <a:blip r:embed="rId2"/>
          <a:stretch/>
        </p:blipFill>
        <p:spPr>
          <a:xfrm>
            <a:off x="7924680" y="6019920"/>
            <a:ext cx="1143000" cy="80640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6"/>
          <p:cNvSpPr/>
          <p:nvPr/>
        </p:nvSpPr>
        <p:spPr>
          <a:xfrm>
            <a:off x="2738520" y="2154240"/>
            <a:ext cx="366876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2738520" y="2154240"/>
            <a:ext cx="11144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2738520" y="2154240"/>
            <a:ext cx="366876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2738520" y="2154240"/>
            <a:ext cx="11144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10"/>
          <p:cNvSpPr/>
          <p:nvPr/>
        </p:nvSpPr>
        <p:spPr>
          <a:xfrm>
            <a:off x="4149720" y="2909880"/>
            <a:ext cx="8460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4149720" y="2909880"/>
            <a:ext cx="11144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2" descr="monkey"/>
          <p:cNvPicPr/>
          <p:nvPr/>
        </p:nvPicPr>
        <p:blipFill>
          <a:blip r:embed="rId3"/>
          <a:srcRect l="10649" t="3445" r="15385" b="10007"/>
          <a:stretch/>
        </p:blipFill>
        <p:spPr>
          <a:xfrm>
            <a:off x="7620120" y="685800"/>
            <a:ext cx="1218960" cy="10987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3"/>
          <p:cNvSpPr/>
          <p:nvPr/>
        </p:nvSpPr>
        <p:spPr>
          <a:xfrm>
            <a:off x="228600" y="2286000"/>
            <a:ext cx="79246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RF –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f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view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amework  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ffers us a route for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ssessing and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mproving our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chool’s use of I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enchmark against best practi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elps to create action plan for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14" descr="Self-review framework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523880" y="83808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5"/>
          <p:cNvSpPr/>
          <p:nvPr/>
        </p:nvSpPr>
        <p:spPr>
          <a:xfrm>
            <a:off x="3886200" y="28576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http://www.ukfederation.org.uk/library/uploads/Documents/BECTA.COL_main.jpg"/>
          <p:cNvPicPr/>
          <p:nvPr/>
        </p:nvPicPr>
        <p:blipFill>
          <a:blip r:embed="rId1"/>
          <a:stretch/>
        </p:blipFill>
        <p:spPr>
          <a:xfrm>
            <a:off x="152280" y="152280"/>
            <a:ext cx="1447920" cy="571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http://www.woodgreenhigh.sandwell.sch.uk/News/images/ICT%20Mark_Full%20Colour.gif"/>
          <p:cNvPicPr/>
          <p:nvPr/>
        </p:nvPicPr>
        <p:blipFill>
          <a:blip r:embed="rId2"/>
          <a:stretch/>
        </p:blipFill>
        <p:spPr>
          <a:xfrm>
            <a:off x="7924680" y="5975280"/>
            <a:ext cx="1143000" cy="806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monkey"/>
          <p:cNvPicPr/>
          <p:nvPr/>
        </p:nvPicPr>
        <p:blipFill>
          <a:blip r:embed="rId3"/>
          <a:srcRect l="10649" t="3445" r="15385" b="10007"/>
          <a:stretch/>
        </p:blipFill>
        <p:spPr>
          <a:xfrm>
            <a:off x="7543800" y="838080"/>
            <a:ext cx="1219320" cy="10987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920" y="-7668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are the benefits of the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SRF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152280" y="129528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CT firmly at the centre of the sch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Complements Ofsted’s self evaluation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dds value to other educational initi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as the learner at its cent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enables benchmarking against other sch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elping schools gr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ighlights areas for development and future inves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nspires commitment and involvement from whole sch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s flexible to allow schools to develop at own 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enables access to other resources that support school impro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ives examples of what ‘good’ looks l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mproves the whole school through self-review and the planned use of 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9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1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900" fill="hold"/>
                                        <p:tgtEl>
                                          <p:spTgt spid="1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2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12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2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00" fill="hold"/>
                                        <p:tgtEl>
                                          <p:spTgt spid="12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http://www.ukfederation.org.uk/library/uploads/Documents/BECTA.COL_main.jpg"/>
          <p:cNvPicPr/>
          <p:nvPr/>
        </p:nvPicPr>
        <p:blipFill>
          <a:blip r:embed="rId1"/>
          <a:stretch/>
        </p:blipFill>
        <p:spPr>
          <a:xfrm>
            <a:off x="0" y="0"/>
            <a:ext cx="1447920" cy="571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http://www.woodgreenhigh.sandwell.sch.uk/News/images/ICT%20Mark_Full%20Colour.gif"/>
          <p:cNvPicPr/>
          <p:nvPr/>
        </p:nvPicPr>
        <p:blipFill>
          <a:blip r:embed="rId2"/>
          <a:stretch/>
        </p:blipFill>
        <p:spPr>
          <a:xfrm>
            <a:off x="7924680" y="6019920"/>
            <a:ext cx="1143000" cy="806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monkey"/>
          <p:cNvPicPr/>
          <p:nvPr/>
        </p:nvPicPr>
        <p:blipFill>
          <a:blip r:embed="rId3"/>
          <a:srcRect l="10649" t="3445" r="15385" b="10007"/>
          <a:stretch/>
        </p:blipFill>
        <p:spPr>
          <a:xfrm>
            <a:off x="7391520" y="457200"/>
            <a:ext cx="1218960" cy="1098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celebrate_clipar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657600" y="1752480"/>
            <a:ext cx="2022480" cy="19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monkey"/>
          <p:cNvPicPr/>
          <p:nvPr/>
        </p:nvPicPr>
        <p:blipFill>
          <a:blip r:embed="rId1"/>
          <a:srcRect l="10649" t="3445" r="15385" b="10007"/>
          <a:stretch/>
        </p:blipFill>
        <p:spPr>
          <a:xfrm>
            <a:off x="7391520" y="457200"/>
            <a:ext cx="1218960" cy="109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http://www.ukfederation.org.uk/library/uploads/Documents/BECTA.COL_main.jpg"/>
          <p:cNvPicPr/>
          <p:nvPr/>
        </p:nvPicPr>
        <p:blipFill>
          <a:blip r:embed="rId2"/>
          <a:stretch/>
        </p:blipFill>
        <p:spPr>
          <a:xfrm>
            <a:off x="34920" y="44280"/>
            <a:ext cx="1447920" cy="571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http://www.woodgreenhigh.sandwell.sch.uk/News/images/ICT%20Mark_Full%20Colour.gif"/>
          <p:cNvPicPr/>
          <p:nvPr/>
        </p:nvPicPr>
        <p:blipFill>
          <a:blip r:embed="rId3"/>
          <a:stretch/>
        </p:blipFill>
        <p:spPr>
          <a:xfrm>
            <a:off x="7956720" y="6006960"/>
            <a:ext cx="1143000" cy="8067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250920" y="184464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 u="sng">
                <a:solidFill>
                  <a:srgbClr val="cc99ff"/>
                </a:solidFill>
                <a:uFillTx/>
                <a:latin typeface="Comic Sans MS"/>
                <a:hlinkClick r:id="rId4"/>
              </a:rPr>
              <a:t>Leadership and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250920" y="234936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urricul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250920" y="280656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earning and Tea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250920" y="331164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250920" y="3814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rofessional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250920" y="431964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xtending opportunities for le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250920" y="4822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250920" y="532764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mpact on pupil outco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ere we are 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http://www.ukfederation.org.uk/library/uploads/Documents/BECTA.COL_main.jpg"/>
          <p:cNvPicPr/>
          <p:nvPr/>
        </p:nvPicPr>
        <p:blipFill>
          <a:blip r:embed="rId1"/>
          <a:stretch/>
        </p:blipFill>
        <p:spPr>
          <a:xfrm>
            <a:off x="76320" y="76320"/>
            <a:ext cx="1447560" cy="57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http://www.woodgreenhigh.sandwell.sch.uk/News/images/ICT%20Mark_Full%20Colour.gif"/>
          <p:cNvPicPr/>
          <p:nvPr/>
        </p:nvPicPr>
        <p:blipFill>
          <a:blip r:embed="rId2"/>
          <a:stretch/>
        </p:blipFill>
        <p:spPr>
          <a:xfrm>
            <a:off x="7924680" y="5975280"/>
            <a:ext cx="1143000" cy="806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monkey"/>
          <p:cNvPicPr/>
          <p:nvPr/>
        </p:nvPicPr>
        <p:blipFill>
          <a:blip r:embed="rId3"/>
          <a:srcRect l="10649" t="3445" r="15385" b="10007"/>
          <a:stretch/>
        </p:blipFill>
        <p:spPr>
          <a:xfrm>
            <a:off x="7391520" y="457200"/>
            <a:ext cx="1218960" cy="10987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8"/>
          <p:cNvSpPr/>
          <p:nvPr/>
        </p:nvSpPr>
        <p:spPr>
          <a:xfrm>
            <a:off x="228600" y="10717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ho will lead ? – Headteacher and 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214200" y="157176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ho will be involved ? – whole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214200" y="36622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gister to use the SRF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214200" y="20718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e have shared good prac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214200" y="316224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CT features in the S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9" descr=""/>
          <p:cNvPicPr/>
          <p:nvPr/>
        </p:nvPicPr>
        <p:blipFill>
          <a:blip r:embed="rId4"/>
          <a:stretch/>
        </p:blipFill>
        <p:spPr>
          <a:xfrm>
            <a:off x="7143840" y="2000160"/>
            <a:ext cx="1500120" cy="938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"/>
          <p:cNvPicPr/>
          <p:nvPr/>
        </p:nvPicPr>
        <p:blipFill>
          <a:blip r:embed="rId5"/>
          <a:stretch/>
        </p:blipFill>
        <p:spPr>
          <a:xfrm>
            <a:off x="7143840" y="3286080"/>
            <a:ext cx="1500120" cy="9381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0"/>
          <p:cNvSpPr/>
          <p:nvPr/>
        </p:nvSpPr>
        <p:spPr>
          <a:xfrm>
            <a:off x="285840" y="421488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e have set up a wi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214200" y="4714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e have audited ICT needs of our school and staf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11" descr=""/>
          <p:cNvPicPr/>
          <p:nvPr/>
        </p:nvPicPr>
        <p:blipFill>
          <a:blip r:embed="rId6"/>
          <a:stretch/>
        </p:blipFill>
        <p:spPr>
          <a:xfrm>
            <a:off x="7143840" y="4500720"/>
            <a:ext cx="1571400" cy="9824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0"/>
          <p:cNvSpPr/>
          <p:nvPr/>
        </p:nvSpPr>
        <p:spPr>
          <a:xfrm>
            <a:off x="214200" y="521496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ppropriate resources have been and are being purch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214200" y="57862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NSET / staff meetings / 1 to 1 support  or 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7"/>
          <p:cNvSpPr/>
          <p:nvPr/>
        </p:nvSpPr>
        <p:spPr>
          <a:xfrm>
            <a:off x="200160" y="2590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iasing with ESIS advisor and staff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13" descr="http://www.esis.org.uk/images/furniture/ESIS_print_logo.png"/>
          <p:cNvPicPr/>
          <p:nvPr/>
        </p:nvPicPr>
        <p:blipFill>
          <a:blip r:embed="rId7"/>
          <a:stretch/>
        </p:blipFill>
        <p:spPr>
          <a:xfrm>
            <a:off x="7358040" y="2428920"/>
            <a:ext cx="928800" cy="214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5" descr="http://newsimg.bbc.co.uk/media/images/40882000/jpg/_40882248_glenboiprimarybbc203.jpg"/>
          <p:cNvPicPr/>
          <p:nvPr/>
        </p:nvPicPr>
        <p:blipFill>
          <a:blip r:embed="rId8"/>
          <a:stretch/>
        </p:blipFill>
        <p:spPr>
          <a:xfrm>
            <a:off x="7500960" y="3429000"/>
            <a:ext cx="789120" cy="590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7" descr="http://images.surveymonkey.com/img/logo_mk.gif"/>
          <p:cNvPicPr/>
          <p:nvPr/>
        </p:nvPicPr>
        <p:blipFill>
          <a:blip r:embed="rId9"/>
          <a:stretch/>
        </p:blipFill>
        <p:spPr>
          <a:xfrm>
            <a:off x="7643880" y="4714920"/>
            <a:ext cx="61920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http://www.ukfederation.org.uk/library/uploads/Documents/BECTA.COL_main.jpg"/>
          <p:cNvPicPr/>
          <p:nvPr/>
        </p:nvPicPr>
        <p:blipFill>
          <a:blip r:embed="rId1"/>
          <a:stretch/>
        </p:blipFill>
        <p:spPr>
          <a:xfrm>
            <a:off x="76320" y="76320"/>
            <a:ext cx="1447560" cy="571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http://www.woodgreenhigh.sandwell.sch.uk/News/images/ICT%20Mark_Full%20Colour.gif"/>
          <p:cNvPicPr/>
          <p:nvPr/>
        </p:nvPicPr>
        <p:blipFill>
          <a:blip r:embed="rId2"/>
          <a:stretch/>
        </p:blipFill>
        <p:spPr>
          <a:xfrm>
            <a:off x="7924680" y="5975280"/>
            <a:ext cx="1143000" cy="806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monkey"/>
          <p:cNvPicPr/>
          <p:nvPr/>
        </p:nvPicPr>
        <p:blipFill>
          <a:blip r:embed="rId3"/>
          <a:srcRect l="10649" t="3445" r="15385" b="10007"/>
          <a:stretch/>
        </p:blipFill>
        <p:spPr>
          <a:xfrm>
            <a:off x="7391520" y="457200"/>
            <a:ext cx="1218960" cy="10987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next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228600" y="244620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se INSET to involve all staff in completing the S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230040" y="316692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ecide upon evidence to collect to support statements in S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214200" y="185724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ke governors aware of S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250920" y="378612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ntinue to develop the school web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271440" y="566244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L given half day per week to work on S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13" descr=""/>
          <p:cNvPicPr/>
          <p:nvPr/>
        </p:nvPicPr>
        <p:blipFill>
          <a:blip r:embed="rId4"/>
          <a:srcRect l="18892" t="19551" r="18892" b="30679"/>
          <a:stretch/>
        </p:blipFill>
        <p:spPr>
          <a:xfrm>
            <a:off x="7215120" y="2071800"/>
            <a:ext cx="1643040" cy="8208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"/>
          <p:cNvPicPr/>
          <p:nvPr/>
        </p:nvPicPr>
        <p:blipFill>
          <a:blip r:embed="rId5"/>
          <a:srcRect l="25894" t="8572" r="29471" b="34288"/>
          <a:stretch/>
        </p:blipFill>
        <p:spPr>
          <a:xfrm>
            <a:off x="7143840" y="3929040"/>
            <a:ext cx="1428840" cy="11430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1"/>
          <p:cNvSpPr/>
          <p:nvPr/>
        </p:nvSpPr>
        <p:spPr>
          <a:xfrm>
            <a:off x="250920" y="442908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CT to continue to feature highly in S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271440" y="50911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ive further support and guidance to continue to ra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tandards in ICT across the curricul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7" descr="http://www.woodgreenhigh.sandwell.sch.uk/News/images/ICT%20Mark_Full%20Colour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59280" y="115920"/>
            <a:ext cx="2449440" cy="17287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24000" y="476280"/>
            <a:ext cx="4392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CT  M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http://www.ukfederation.org.uk/library/uploads/Documents/BECTA.COL_main.jpg"/>
          <p:cNvPicPr/>
          <p:nvPr/>
        </p:nvPicPr>
        <p:blipFill>
          <a:blip r:embed="rId2"/>
          <a:stretch/>
        </p:blipFill>
        <p:spPr>
          <a:xfrm>
            <a:off x="28440" y="49320"/>
            <a:ext cx="1447920" cy="5713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http://www.woodgreenhigh.sandwell.sch.uk/News/images/ICT%20Mark_Full%20Colour.gif"/>
          <p:cNvPicPr/>
          <p:nvPr/>
        </p:nvPicPr>
        <p:blipFill>
          <a:blip r:embed="rId3"/>
          <a:stretch/>
        </p:blipFill>
        <p:spPr>
          <a:xfrm>
            <a:off x="7956720" y="6006960"/>
            <a:ext cx="1143000" cy="806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monkey"/>
          <p:cNvPicPr/>
          <p:nvPr/>
        </p:nvPicPr>
        <p:blipFill>
          <a:blip r:embed="rId4"/>
          <a:srcRect l="10649" t="3445" r="15385" b="10007"/>
          <a:stretch/>
        </p:blipFill>
        <p:spPr>
          <a:xfrm>
            <a:off x="7391520" y="457200"/>
            <a:ext cx="1218960" cy="10987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9"/>
          <p:cNvSpPr/>
          <p:nvPr/>
        </p:nvSpPr>
        <p:spPr>
          <a:xfrm>
            <a:off x="179280" y="162864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hat is it ?    -    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externally assessed quality ma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179280" y="2349360"/>
            <a:ext cx="8533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ow will it benefit our school ? 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celebrate su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verifies own self-review judg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recognises whole school improv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promote our sch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250920" y="53737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ow can we achieve the ICT MARK ? 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achieving set levels in SRF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07:32:57Z</dcterms:created>
  <dc:creator>4glenb2</dc:creator>
  <dc:description/>
  <dc:language>en-US</dc:language>
  <cp:lastModifiedBy> </cp:lastModifiedBy>
  <dcterms:modified xsi:type="dcterms:W3CDTF">2010-10-20T13:32:02Z</dcterms:modified>
  <cp:revision>15</cp:revision>
  <dc:subject/>
  <dc:title>Welcome</dc:title>
</cp:coreProperties>
</file>