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8F1-0082-48BD-92C3-E1AD6BA1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F7E9-2F84-4E37-886C-067E2436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331-558C-4DA6-A3D0-65A049AA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B5D-9BF0-4098-A762-BB658666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BB2E-E7E4-4467-A05D-134115D7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0CB6-0FF1-49D0-9C52-4EA8407C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6DC9-AFCB-425B-A548-E07E658F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4F17-8DE1-4572-86C5-D1818FD7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D569-7CAF-47E6-B00D-7602B3C0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2579-A7F3-4E66-9220-ADADDDA9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534F-1ED3-4170-BD03-248BCA23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C93-2B33-4D4C-97D6-9749BD05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35CC-E91C-431A-A91C-BBD625F3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C273-BCFB-447E-ABE2-22F22949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6473-2BCC-4802-B88D-2E1E2A1C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0675-7C7C-4439-85B6-C8D34493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22B2-D911-4326-9BBC-138F5192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982-DD56-4873-8875-8BB84ACC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EEDC-86A1-412B-A1D3-4BB8F88F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73C-011D-45F3-AE62-4D819872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4AE-B451-4EF2-B328-16873456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FDC-1D40-46D6-AF7E-763A8E23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481-C01B-423C-9EB1-31ECB8A8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E0B-4BC2-4BA9-A8A1-673FA636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E4C7-8247-4644-BFA2-2C0AA7F296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3B08-840F-40AF-BBAF-08D41341CD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schools.becta.org.uk/index.php?section=srf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schools.becta.org.uk/index.php?section=srf&amp;catcode=ss_to_srf_exp_02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hyperlink" Target="https://selfreview.becta.org.uk/review/elements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3280" y="-71640"/>
            <a:ext cx="4140360" cy="206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Welc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www.woodgreenhigh.sandwell.sch.uk/News/images/ICT%20Mark_Full%20Colour.gif"/>
          <p:cNvPicPr/>
          <p:nvPr/>
        </p:nvPicPr>
        <p:blipFill>
          <a:blip r:embed="rId1"/>
          <a:stretch/>
        </p:blipFill>
        <p:spPr>
          <a:xfrm>
            <a:off x="7164360" y="5348160"/>
            <a:ext cx="1674720" cy="1181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http://www.ukfederation.org.uk/library/uploads/Documents/BECTA.COL_main.jpg"/>
          <p:cNvPicPr/>
          <p:nvPr/>
        </p:nvPicPr>
        <p:blipFill>
          <a:blip r:embed="rId2"/>
          <a:stretch/>
        </p:blipFill>
        <p:spPr>
          <a:xfrm>
            <a:off x="304920" y="380880"/>
            <a:ext cx="2682720" cy="10591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4795920"/>
            <a:ext cx="3780000" cy="22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roes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0" descr="monkey"/>
          <p:cNvPicPr/>
          <p:nvPr/>
        </p:nvPicPr>
        <p:blipFill>
          <a:blip r:embed="rId3"/>
          <a:srcRect l="10638" t="3435" r="15379" b="10015"/>
          <a:stretch/>
        </p:blipFill>
        <p:spPr>
          <a:xfrm>
            <a:off x="8286840" y="142920"/>
            <a:ext cx="714240" cy="642960"/>
          </a:xfrm>
          <a:prstGeom prst="rect">
            <a:avLst/>
          </a:prstGeom>
          <a:ln w="0">
            <a:noFill/>
          </a:ln>
        </p:spPr>
      </p:pic>
      <p:pic>
        <p:nvPicPr>
          <p:cNvPr id="93" name="song final.wav" descr=""/>
          <p:cNvPicPr/>
          <p:nvPr/>
        </p:nvPicPr>
        <p:blipFill>
          <a:blip r:embed="rId4"/>
          <a:stretch/>
        </p:blipFill>
        <p:spPr>
          <a:xfrm>
            <a:off x="8572680" y="2858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ttp://images.google.co.uk/url?q=http://newsimg.bbc.co.uk/media/images/41143000/jpg/_41143114_glenboibbc203.jpg&amp;usg=AFQjCNFS2cGTDnbcfXmdXsK5-iw-31RjiA"/>
          <p:cNvPicPr/>
          <p:nvPr/>
        </p:nvPicPr>
        <p:blipFill>
          <a:blip r:embed="rId5"/>
          <a:stretch/>
        </p:blipFill>
        <p:spPr>
          <a:xfrm>
            <a:off x="2857680" y="1857240"/>
            <a:ext cx="3500280" cy="2621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714240" y="4357800"/>
            <a:ext cx="77868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CT report to Govern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30 / 09 / 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IMAG015"/>
          <p:cNvPicPr/>
          <p:nvPr/>
        </p:nvPicPr>
        <p:blipFill>
          <a:blip r:embed="rId1"/>
          <a:stretch/>
        </p:blipFill>
        <p:spPr>
          <a:xfrm>
            <a:off x="5857920" y="189000"/>
            <a:ext cx="3035160" cy="2109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71640" y="1663200"/>
            <a:ext cx="604836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edraw Primary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9" descr="http://www.ukfederation.org.uk/library/uploads/Documents/BECTA.COL_main.jpg"/>
          <p:cNvPicPr/>
          <p:nvPr/>
        </p:nvPicPr>
        <p:blipFill>
          <a:blip r:embed="rId2"/>
          <a:stretch/>
        </p:blipFill>
        <p:spPr>
          <a:xfrm>
            <a:off x="28440" y="49320"/>
            <a:ext cx="1447920" cy="571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http://www.woodgreenhigh.sandwell.sch.uk/News/images/ICT%20Mark_Full%20Colour.gif"/>
          <p:cNvPicPr/>
          <p:nvPr/>
        </p:nvPicPr>
        <p:blipFill>
          <a:blip r:embed="rId3"/>
          <a:stretch/>
        </p:blipFill>
        <p:spPr>
          <a:xfrm>
            <a:off x="7956720" y="6006960"/>
            <a:ext cx="1143000" cy="806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monkey"/>
          <p:cNvPicPr/>
          <p:nvPr/>
        </p:nvPicPr>
        <p:blipFill>
          <a:blip r:embed="rId4"/>
          <a:srcRect l="10649" t="3445" r="15385" b="10007"/>
          <a:stretch/>
        </p:blipFill>
        <p:spPr>
          <a:xfrm>
            <a:off x="108000" y="58910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2"/>
          <p:cNvSpPr/>
          <p:nvPr/>
        </p:nvSpPr>
        <p:spPr>
          <a:xfrm>
            <a:off x="303120" y="3805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aedraw Primary School is one of the first schools to have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chieved the ICT 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Bugs%20Bunny"/>
          <p:cNvPicPr/>
          <p:nvPr/>
        </p:nvPicPr>
        <p:blipFill>
          <a:blip r:embed="rId1"/>
          <a:stretch/>
        </p:blipFill>
        <p:spPr>
          <a:xfrm>
            <a:off x="2771640" y="115920"/>
            <a:ext cx="3159360" cy="4967280"/>
          </a:xfrm>
          <a:prstGeom prst="rect">
            <a:avLst/>
          </a:prstGeom>
          <a:ln w="0">
            <a:noFill/>
          </a:ln>
        </p:spPr>
      </p:pic>
      <p:sp>
        <p:nvSpPr>
          <p:cNvPr id="193" name="WordArt 6"/>
          <p:cNvSpPr txBox="1"/>
          <p:nvPr/>
        </p:nvSpPr>
        <p:spPr>
          <a:xfrm>
            <a:off x="1522440" y="5162400"/>
            <a:ext cx="5497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's   all    folks ! ! 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Picture 7" descr="http://www.ukfederation.org.uk/library/uploads/Documents/BECTA.COL_main.jpg"/>
          <p:cNvPicPr/>
          <p:nvPr/>
        </p:nvPicPr>
        <p:blipFill>
          <a:blip r:embed="rId2"/>
          <a:stretch/>
        </p:blipFill>
        <p:spPr>
          <a:xfrm>
            <a:off x="28440" y="49320"/>
            <a:ext cx="1447920" cy="571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http://www.woodgreenhigh.sandwell.sch.uk/News/images/ICT%20Mark_Full%20Colour.gif"/>
          <p:cNvPicPr/>
          <p:nvPr/>
        </p:nvPicPr>
        <p:blipFill>
          <a:blip r:embed="rId3"/>
          <a:stretch/>
        </p:blipFill>
        <p:spPr>
          <a:xfrm>
            <a:off x="7956720" y="6006960"/>
            <a:ext cx="1143000" cy="806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monkey"/>
          <p:cNvPicPr/>
          <p:nvPr/>
        </p:nvPicPr>
        <p:blipFill>
          <a:blip r:embed="rId4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pic>
        <p:nvPicPr>
          <p:cNvPr id="197" name="song final.wav" descr=""/>
          <p:cNvPicPr/>
          <p:nvPr/>
        </p:nvPicPr>
        <p:blipFill>
          <a:blip r:embed="rId5"/>
          <a:stretch/>
        </p:blipFill>
        <p:spPr>
          <a:xfrm>
            <a:off x="7929720" y="9288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60000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571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6019920"/>
            <a:ext cx="1143000" cy="806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6881760" y="549360"/>
            <a:ext cx="1219320" cy="1098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3352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144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755640" y="1773360"/>
            <a:ext cx="312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is SRF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755640" y="234936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are the benefits of the SRF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752400" y="400068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nex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755640" y="350028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ere we are at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752400" y="292896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755640" y="458136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T  MA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755640" y="515772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edraw Primary Scho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755640" y="567072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at’s all folk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SRF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6019920"/>
            <a:ext cx="1143000" cy="8064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2738520" y="2154240"/>
            <a:ext cx="366876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738520" y="2154240"/>
            <a:ext cx="1114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2738520" y="2154240"/>
            <a:ext cx="366876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738520" y="2154240"/>
            <a:ext cx="1114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4149720" y="2909880"/>
            <a:ext cx="846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4149720" y="2909880"/>
            <a:ext cx="1114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2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7620120" y="685800"/>
            <a:ext cx="1218960" cy="1098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228600" y="2286000"/>
            <a:ext cx="7924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RF –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f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view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amework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fers us a route for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ssessing 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mproving our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chool’s use of 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nchmark against best pract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lps to create action plan for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4" descr="Self-review framework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3880" y="83808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5"/>
          <p:cNvSpPr/>
          <p:nvPr/>
        </p:nvSpPr>
        <p:spPr>
          <a:xfrm>
            <a:off x="3886200" y="28576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152280" y="152280"/>
            <a:ext cx="1447920" cy="571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5975280"/>
            <a:ext cx="1143000" cy="806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7543800" y="838080"/>
            <a:ext cx="1219320" cy="1098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-7668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are the benefits of the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RF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15228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CT firmly at the centre of the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mplements Ofsted’s self evalu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dds value to other educational initi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as the learner at its cen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nables benchmarking against other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lping schools g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ighlights areas for development and future inves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pires commitment and involvement from whole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s flexible to allow schools to develop at own 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nables access to other resources that support school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ives examples of what ‘good’ looks l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mproves the whole school through self-review and the planned use of 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0" y="0"/>
            <a:ext cx="1447920" cy="571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6019920"/>
            <a:ext cx="1143000" cy="806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elebrate_clipar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57600" y="1752480"/>
            <a:ext cx="202248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monkey"/>
          <p:cNvPicPr/>
          <p:nvPr/>
        </p:nvPicPr>
        <p:blipFill>
          <a:blip r:embed="rId1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http://www.ukfederation.org.uk/library/uploads/Documents/BECTA.COL_main.jpg"/>
          <p:cNvPicPr/>
          <p:nvPr/>
        </p:nvPicPr>
        <p:blipFill>
          <a:blip r:embed="rId2"/>
          <a:stretch/>
        </p:blipFill>
        <p:spPr>
          <a:xfrm>
            <a:off x="34920" y="44280"/>
            <a:ext cx="1447920" cy="571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www.woodgreenhigh.sandwell.sch.uk/News/images/ICT%20Mark_Full%20Colour.gif"/>
          <p:cNvPicPr/>
          <p:nvPr/>
        </p:nvPicPr>
        <p:blipFill>
          <a:blip r:embed="rId3"/>
          <a:stretch/>
        </p:blipFill>
        <p:spPr>
          <a:xfrm>
            <a:off x="7956720" y="6006960"/>
            <a:ext cx="1143000" cy="8067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250920" y="184464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 u="sng">
                <a:solidFill>
                  <a:srgbClr val="cc99ff"/>
                </a:solidFill>
                <a:uFillTx/>
                <a:latin typeface="Comic Sans MS"/>
                <a:hlinkClick r:id="rId4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250920" y="234936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urricu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0920" y="280656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arning and Tea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250920" y="331164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250920" y="3814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rofessional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250920" y="431964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tending opportunities for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250920" y="4822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250920" y="532764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mpact on pupil out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ere we are 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76320" y="76320"/>
            <a:ext cx="1447560" cy="57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5975280"/>
            <a:ext cx="1143000" cy="806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228600" y="10717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o will lead ? – Headteacher and 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214200" y="1571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o will be involved ? – whole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214200" y="36622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gister to use the SRF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214200" y="20718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have shared good prac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14200" y="31622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CT features in the S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4"/>
          <a:stretch/>
        </p:blipFill>
        <p:spPr>
          <a:xfrm>
            <a:off x="7143840" y="2000160"/>
            <a:ext cx="1500120" cy="938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5"/>
          <a:stretch/>
        </p:blipFill>
        <p:spPr>
          <a:xfrm>
            <a:off x="7143840" y="3286080"/>
            <a:ext cx="1500120" cy="9381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"/>
          <p:cNvSpPr/>
          <p:nvPr/>
        </p:nvSpPr>
        <p:spPr>
          <a:xfrm>
            <a:off x="285840" y="421488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have set up a wi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14200" y="4714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have audited ICT needs of our school and sta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6"/>
          <a:stretch/>
        </p:blipFill>
        <p:spPr>
          <a:xfrm>
            <a:off x="7143840" y="4500720"/>
            <a:ext cx="1571400" cy="982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0"/>
          <p:cNvSpPr/>
          <p:nvPr/>
        </p:nvSpPr>
        <p:spPr>
          <a:xfrm>
            <a:off x="214200" y="52149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propriate resources have been and are being purch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214200" y="57862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SET / staff meetings / 1 to 1 support  or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200160" y="2590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asing with ESIS advisor and staf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3" descr="http://www.esis.org.uk/images/furniture/ESIS_print_logo.png"/>
          <p:cNvPicPr/>
          <p:nvPr/>
        </p:nvPicPr>
        <p:blipFill>
          <a:blip r:embed="rId7"/>
          <a:stretch/>
        </p:blipFill>
        <p:spPr>
          <a:xfrm>
            <a:off x="7358040" y="2428920"/>
            <a:ext cx="928800" cy="214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http://newsimg.bbc.co.uk/media/images/40882000/jpg/_40882248_glenboiprimarybbc203.jpg"/>
          <p:cNvPicPr/>
          <p:nvPr/>
        </p:nvPicPr>
        <p:blipFill>
          <a:blip r:embed="rId8"/>
          <a:stretch/>
        </p:blipFill>
        <p:spPr>
          <a:xfrm>
            <a:off x="7500960" y="3429000"/>
            <a:ext cx="789120" cy="59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http://images.surveymonkey.com/img/logo_mk.gif"/>
          <p:cNvPicPr/>
          <p:nvPr/>
        </p:nvPicPr>
        <p:blipFill>
          <a:blip r:embed="rId9"/>
          <a:stretch/>
        </p:blipFill>
        <p:spPr>
          <a:xfrm>
            <a:off x="7643880" y="4714920"/>
            <a:ext cx="6192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76320" y="76320"/>
            <a:ext cx="1447560" cy="571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5975280"/>
            <a:ext cx="1143000" cy="806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nex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28600" y="244620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se INSET to involve all staff in completing the S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30040" y="316692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cide upon evidence to collect to support statements in S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214200" y="18572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ke governors aware of S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250920" y="378612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ntinue to develop the school web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271440" y="56624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L given half day per week to work on S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4"/>
          <a:srcRect l="18892" t="19551" r="18892" b="30679"/>
          <a:stretch/>
        </p:blipFill>
        <p:spPr>
          <a:xfrm>
            <a:off x="7215120" y="2071800"/>
            <a:ext cx="1643040" cy="820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"/>
          <p:cNvPicPr/>
          <p:nvPr/>
        </p:nvPicPr>
        <p:blipFill>
          <a:blip r:embed="rId5"/>
          <a:srcRect l="25894" t="8572" r="29471" b="34288"/>
          <a:stretch/>
        </p:blipFill>
        <p:spPr>
          <a:xfrm>
            <a:off x="7143840" y="3929040"/>
            <a:ext cx="142884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1"/>
          <p:cNvSpPr/>
          <p:nvPr/>
        </p:nvSpPr>
        <p:spPr>
          <a:xfrm>
            <a:off x="250920" y="442908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CT to continue to feature highly in S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271440" y="50911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ive further support and guidance to continue to ra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andards in ICT across the curricul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http://www.woodgreenhigh.sandwell.sch.uk/News/images/ICT%20Mark_Full%20Colour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59280" y="115920"/>
            <a:ext cx="2449440" cy="1728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24000" y="476280"/>
            <a:ext cx="4392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CT  M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http://www.ukfederation.org.uk/library/uploads/Documents/BECTA.COL_main.jpg"/>
          <p:cNvPicPr/>
          <p:nvPr/>
        </p:nvPicPr>
        <p:blipFill>
          <a:blip r:embed="rId2"/>
          <a:stretch/>
        </p:blipFill>
        <p:spPr>
          <a:xfrm>
            <a:off x="28440" y="49320"/>
            <a:ext cx="1447920" cy="571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http://www.woodgreenhigh.sandwell.sch.uk/News/images/ICT%20Mark_Full%20Colour.gif"/>
          <p:cNvPicPr/>
          <p:nvPr/>
        </p:nvPicPr>
        <p:blipFill>
          <a:blip r:embed="rId3"/>
          <a:stretch/>
        </p:blipFill>
        <p:spPr>
          <a:xfrm>
            <a:off x="7956720" y="6006960"/>
            <a:ext cx="1143000" cy="806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monkey"/>
          <p:cNvPicPr/>
          <p:nvPr/>
        </p:nvPicPr>
        <p:blipFill>
          <a:blip r:embed="rId4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179280" y="16286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at is it ?    -   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externally assessed quality 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79280" y="2349360"/>
            <a:ext cx="8533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w will it benefit our school ?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celebrate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verifies own self-review judg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recognises whole school improv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promote our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50920" y="53737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w can we achieve the ICT MARK ?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chieving set levels in SR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07:32:57Z</dcterms:created>
  <dc:creator>4glenb2</dc:creator>
  <dc:description/>
  <dc:language>en-US</dc:language>
  <cp:lastModifiedBy> </cp:lastModifiedBy>
  <dcterms:modified xsi:type="dcterms:W3CDTF">2010-10-20T13:32:02Z</dcterms:modified>
  <cp:revision>15</cp:revision>
  <dc:subject/>
  <dc:title>Welcome</dc:title>
</cp:coreProperties>
</file>