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DC8-DED0-4269-AFA6-49AA94A4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986-6587-4D20-8FFC-3E793495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C3E-8FD9-48A5-BF8F-304DC37B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DB2-D231-4932-A349-B718C2F1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690-63F1-45F3-A75F-46A0F8A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514-CB87-422F-8D9E-59FF18F1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F61-7E0B-4951-92E2-232F0052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4BF-9E0C-4190-9C5F-C71D8A90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83F-9075-41F1-9C20-60D2DC70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579-53FC-4076-96F4-B6AEB35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95E-1656-4AEA-879C-07E26353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4D3-6479-444B-960A-EEC89285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53AD-2CE9-466B-8D49-3047C043B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4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jpe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" y="4797360"/>
            <a:ext cx="295308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66600"/>
            <a:ext cx="2230560" cy="206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4656240"/>
            <a:ext cx="1338120" cy="220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44280"/>
            <a:ext cx="2303640" cy="155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32360" y="4938840"/>
            <a:ext cx="32036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4360" y="3375000"/>
            <a:ext cx="187164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942240" y="115920"/>
            <a:ext cx="2093760" cy="16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368440" y="44280"/>
            <a:ext cx="1051200" cy="136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08000" y="2316240"/>
            <a:ext cx="1700280" cy="22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0520" y="1773360"/>
            <a:ext cx="172548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11280" y="184464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44280"/>
            <a:ext cx="73008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29520" t="1601" r="29520" b="1601"/>
          <a:stretch/>
        </p:blipFill>
        <p:spPr>
          <a:xfrm>
            <a:off x="3317760" y="4724280"/>
            <a:ext cx="822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76606569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75248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1860952" descr=""/>
          <p:cNvPicPr/>
          <p:nvPr/>
        </p:nvPicPr>
        <p:blipFill>
          <a:blip r:embed="rId2"/>
          <a:stretch/>
        </p:blipFill>
        <p:spPr>
          <a:xfrm>
            <a:off x="7594560" y="4648320"/>
            <a:ext cx="132408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04920"/>
            <a:ext cx="9144000" cy="58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land of my f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nd of my fathers is dear unto 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 land where the minstrels are honored and f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warring defenders, so gallant and bra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freedom their life's blood they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d!,  Land!,  True I am to my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sea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land so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may our old language end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76320"/>
            <a:ext cx="5181480" cy="393444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en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ae   hen  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n    ann  wyl    i   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wlad  beirdd   a    chan  tor   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     wogion       o       f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i       gwrol       ryf      el      wy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wlad     garwyr     tra     mâ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ros    ryddid  coll    asant    eu   gw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951360"/>
            <a:ext cx="5257800" cy="29124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8000"/>
                </a:solidFill>
                <a:latin typeface="Comic Sans MS"/>
              </a:rPr>
              <a:t>Gwlad,   gwlad,   pleidiol   wy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'm   gw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   môr   yn   fur   i'r   b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ff   ba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  bydded   i'r   hen   ia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rh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74520"/>
            <a:ext cx="1904760" cy="1144800"/>
          </a:xfrm>
          <a:prstGeom prst="rect">
            <a:avLst/>
          </a:prstGeom>
          <a:ln w="0">
            <a:noFill/>
          </a:ln>
        </p:spPr>
      </p:pic>
      <p:pic>
        <p:nvPicPr>
          <p:cNvPr id="134" name="1860952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57824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4356357" descr=""/>
          <p:cNvPicPr/>
          <p:nvPr/>
        </p:nvPicPr>
        <p:blipFill>
          <a:blip r:embed="rId3"/>
          <a:stretch/>
        </p:blipFill>
        <p:spPr>
          <a:xfrm>
            <a:off x="76320" y="30240"/>
            <a:ext cx="213336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320" y="5560920"/>
            <a:ext cx="19047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2485800" y="306936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oe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651640" y="299808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43200" y="90360"/>
            <a:ext cx="4229280" cy="6690960"/>
            <a:chOff x="2743200" y="90360"/>
            <a:chExt cx="4229280" cy="6690960"/>
          </a:xfrm>
        </p:grpSpPr>
        <p:pic>
          <p:nvPicPr>
            <p:cNvPr id="57" name="dscn2876" descr=""/>
            <p:cNvPicPr/>
            <p:nvPr/>
          </p:nvPicPr>
          <p:blipFill>
            <a:blip r:embed="rId1"/>
            <a:srcRect l="8697" t="2047" r="12629" b="7502"/>
            <a:stretch/>
          </p:blipFill>
          <p:spPr>
            <a:xfrm>
              <a:off x="3886200" y="2460960"/>
              <a:ext cx="205740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flag_czech" descr=""/>
            <p:cNvPicPr/>
            <p:nvPr/>
          </p:nvPicPr>
          <p:blipFill>
            <a:blip r:embed="rId2"/>
            <a:stretch/>
          </p:blipFill>
          <p:spPr>
            <a:xfrm>
              <a:off x="537228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lag_slovak" descr=""/>
            <p:cNvPicPr/>
            <p:nvPr/>
          </p:nvPicPr>
          <p:blipFill>
            <a:blip r:embed="rId3"/>
            <a:stretch/>
          </p:blipFill>
          <p:spPr>
            <a:xfrm>
              <a:off x="449316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flag_wales2" descr=""/>
            <p:cNvPicPr/>
            <p:nvPr/>
          </p:nvPicPr>
          <p:blipFill>
            <a:blip r:embed="rId4"/>
            <a:stretch/>
          </p:blipFill>
          <p:spPr>
            <a:xfrm>
              <a:off x="27432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flag_poland" descr=""/>
            <p:cNvPicPr/>
            <p:nvPr/>
          </p:nvPicPr>
          <p:blipFill>
            <a:blip r:embed="rId5"/>
            <a:stretch/>
          </p:blipFill>
          <p:spPr>
            <a:xfrm>
              <a:off x="36576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flag_wales2" descr=""/>
            <p:cNvPicPr/>
            <p:nvPr/>
          </p:nvPicPr>
          <p:blipFill>
            <a:blip r:embed="rId6"/>
            <a:stretch/>
          </p:blipFill>
          <p:spPr>
            <a:xfrm>
              <a:off x="6207840" y="90360"/>
              <a:ext cx="764640" cy="51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743200" y="6262920"/>
              <a:ext cx="4229280" cy="518400"/>
              <a:chOff x="2743200" y="6262920"/>
              <a:chExt cx="4229280" cy="518400"/>
            </a:xfrm>
          </p:grpSpPr>
          <p:pic>
            <p:nvPicPr>
              <p:cNvPr id="64" name="flag_czech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228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g_slovak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316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g_wales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flag_poland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flag_wales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7840" y="626292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2743200" y="943200"/>
              <a:ext cx="764280" cy="5038560"/>
              <a:chOff x="2743200" y="943200"/>
              <a:chExt cx="764280" cy="5038560"/>
            </a:xfrm>
          </p:grpSpPr>
          <p:pic>
            <p:nvPicPr>
              <p:cNvPr id="70" name="flag_poland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943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flag_poland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43200" y="5463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flag_slovak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3200" y="1629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flag_slovak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4777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flag_czech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3200" y="242928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flag_czech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3200" y="3976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flag_wales2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3229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6172200" y="890280"/>
              <a:ext cx="764640" cy="5038560"/>
              <a:chOff x="6172200" y="890280"/>
              <a:chExt cx="764640" cy="5038560"/>
            </a:xfrm>
          </p:grpSpPr>
          <p:pic>
            <p:nvPicPr>
              <p:cNvPr id="78" name="flag_poland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72200" y="890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flag_poland" descr="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410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flag_slovak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72200" y="1576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flag_slovak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72200" y="4724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flag_czech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72200" y="237636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flag_czech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72200" y="392400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flag_wales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72200" y="3176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 txBox="1"/>
            <p:nvPr/>
          </p:nvSpPr>
          <p:spPr>
            <a:xfrm>
              <a:off x="3886200" y="1004760"/>
              <a:ext cx="2009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meni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86200" y="4836600"/>
              <a:ext cx="2057400" cy="10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ymr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686480" y="4716720"/>
              <a:ext cx="5713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2  0  0  8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4457520" y="1347480"/>
              <a:ext cx="79992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4290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t.  David</a:t>
            </a:r>
            <a:endParaRPr b="0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52680" y="3049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wi  San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Welcome%20to%20Llanddewi%20Brefi%20in%20Spring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llanddewibrefi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_d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6416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300px-RoyalRegimentWalesGoat_gobeirn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108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657600" y="3049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yal Regiment of Wal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geinternational1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186095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6212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180px-Badge_of_the_Prince_of_Wales.svg" descr=""/>
          <p:cNvPicPr/>
          <p:nvPr/>
        </p:nvPicPr>
        <p:blipFill>
          <a:blip r:embed="rId3"/>
          <a:stretch/>
        </p:blipFill>
        <p:spPr>
          <a:xfrm>
            <a:off x="5257800" y="3470400"/>
            <a:ext cx="3003480" cy="338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55627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ales Rugby Tea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erphest_cat" descr=""/>
          <p:cNvPicPr/>
          <p:nvPr/>
        </p:nvPicPr>
        <p:blipFill>
          <a:blip r:embed="rId1"/>
          <a:srcRect l="6062" t="9595" r="3028" b="30630"/>
          <a:stretch/>
        </p:blipFill>
        <p:spPr>
          <a:xfrm>
            <a:off x="76320" y="76320"/>
            <a:ext cx="5333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66880" cy="17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168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isteddfod1" descr=""/>
          <p:cNvPicPr/>
          <p:nvPr/>
        </p:nvPicPr>
        <p:blipFill>
          <a:blip r:embed="rId3"/>
          <a:stretch/>
        </p:blipFill>
        <p:spPr>
          <a:xfrm>
            <a:off x="4267080" y="3713040"/>
            <a:ext cx="4724640" cy="299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9520" t="1601" r="29520" b="1601"/>
          <a:stretch/>
        </p:blipFill>
        <p:spPr>
          <a:xfrm>
            <a:off x="1295280" y="3505320"/>
            <a:ext cx="12574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990720" y="2819520"/>
            <a:ext cx="6933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membering Our Pas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42320" cy="422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6668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Y Ddraig Goc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55627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e Red Dragon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9658-1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000069_1_cardiff-millenium-stadium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98108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millennium_centre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singerqueenstreet" descr="Cardiff Queen Street Beggar"/>
          <p:cNvPicPr/>
          <p:nvPr/>
        </p:nvPicPr>
        <p:blipFill>
          <a:blip r:embed="rId4"/>
          <a:srcRect l="0" t="0" r="4470" b="11907"/>
          <a:stretch/>
        </p:blipFill>
        <p:spPr>
          <a:xfrm>
            <a:off x="7265880" y="15228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julien_mcdonald120" descr=""/>
          <p:cNvPicPr/>
          <p:nvPr/>
        </p:nvPicPr>
        <p:blipFill>
          <a:blip r:embed="rId5"/>
          <a:stretch/>
        </p:blipFill>
        <p:spPr>
          <a:xfrm>
            <a:off x="182880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anthony_hopkinsNTE=" descr=""/>
          <p:cNvPicPr/>
          <p:nvPr/>
        </p:nvPicPr>
        <p:blipFill>
          <a:blip r:embed="rId6"/>
          <a:stretch/>
        </p:blipFill>
        <p:spPr>
          <a:xfrm>
            <a:off x="3436920" y="3352680"/>
            <a:ext cx="90648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19_catherinezetaj_lgl" descr=""/>
          <p:cNvPicPr/>
          <p:nvPr/>
        </p:nvPicPr>
        <p:blipFill>
          <a:blip r:embed="rId7"/>
          <a:stretch/>
        </p:blipFill>
        <p:spPr>
          <a:xfrm>
            <a:off x="152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45200" y="3352680"/>
            <a:ext cx="117000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katherine_jenkins200" descr=""/>
          <p:cNvPicPr/>
          <p:nvPr/>
        </p:nvPicPr>
        <p:blipFill>
          <a:blip r:embed="rId9"/>
          <a:stretch/>
        </p:blipFill>
        <p:spPr>
          <a:xfrm>
            <a:off x="304920" y="5423040"/>
            <a:ext cx="144756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charlotte_church02" descr=""/>
          <p:cNvPicPr/>
          <p:nvPr/>
        </p:nvPicPr>
        <p:blipFill>
          <a:blip r:embed="rId10"/>
          <a:srcRect l="17070" t="0" r="19514" b="40375"/>
          <a:stretch/>
        </p:blipFill>
        <p:spPr>
          <a:xfrm>
            <a:off x="7605720" y="3352680"/>
            <a:ext cx="12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tn2_ioan_gruffudd_3" descr=""/>
          <p:cNvPicPr/>
          <p:nvPr/>
        </p:nvPicPr>
        <p:blipFill>
          <a:blip r:embed="rId11"/>
          <a:stretch/>
        </p:blipFill>
        <p:spPr>
          <a:xfrm>
            <a:off x="4876920" y="3352680"/>
            <a:ext cx="934920" cy="1278000"/>
          </a:xfrm>
          <a:prstGeom prst="rect">
            <a:avLst/>
          </a:prstGeom>
          <a:ln w="0">
            <a:noFill/>
          </a:ln>
        </p:spPr>
      </p:pic>
      <p:pic>
        <p:nvPicPr>
          <p:cNvPr id="121" name="_44130620_shane_williams50th416" descr=""/>
          <p:cNvPicPr/>
          <p:nvPr/>
        </p:nvPicPr>
        <p:blipFill>
          <a:blip r:embed="rId12"/>
          <a:stretch/>
        </p:blipFill>
        <p:spPr>
          <a:xfrm>
            <a:off x="7391520" y="5357880"/>
            <a:ext cx="1447560" cy="10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3456000" y="4695840"/>
            <a:ext cx="233532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3520" y="23623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SH  and  PROUD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232_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27968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evanjames" descr=""/>
          <p:cNvPicPr/>
          <p:nvPr/>
        </p:nvPicPr>
        <p:blipFill>
          <a:blip r:embed="rId2"/>
          <a:stretch/>
        </p:blipFill>
        <p:spPr>
          <a:xfrm>
            <a:off x="6408720" y="533520"/>
            <a:ext cx="19954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00600" y="4648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n Jam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6019920"/>
            <a:ext cx="4343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ote the national Anthem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22:46Z</dcterms:created>
  <dc:creator>J Lewis</dc:creator>
  <dc:description/>
  <dc:language>en-US</dc:language>
  <cp:lastModifiedBy>4glenb2</cp:lastModifiedBy>
  <dcterms:modified xsi:type="dcterms:W3CDTF">2008-04-17T11:11:26Z</dcterms:modified>
  <cp:revision>4</cp:revision>
  <dc:subject/>
  <dc:title>Slide 1</dc:title>
</cp:coreProperties>
</file>